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4ABC-4B3A-427F-8E36-4E9B936AC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E436-3FCC-467E-B587-DB19F63B3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A843-23C1-4D60-B74D-A5632D72A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947E-0DB4-4787-8A6A-D557D96ED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F3FF-2080-42C9-A620-E704CDD39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6E97-9C7A-4A27-A0AA-1FC6F5EDC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E7AF-F5B9-4211-B969-4331AA316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3D21-F037-4961-983B-332827AEE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19DB-A712-4661-9B20-74169D5DA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939A-ADED-4DCB-90FD-65C9A872F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78B3-C0DD-46F8-A15E-BF75AD77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AC64-8AD8-4BB3-B775-D5B9D190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4EADC-5F6C-4C7C-85AD-D57D188C46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feld 3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nalyse der Spielergebnisse durch den Spiellei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feld 4"/>
          <p:cNvSpPr/>
          <p:nvPr/>
        </p:nvSpPr>
        <p:spPr>
          <a:xfrm>
            <a:off x="0" y="64296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Markt, Marketing-Mix, Nachfrage, Absatz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mit den Teilnehmerbericht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- 11: Marktforschungsberich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- Executive Summary        -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feld 5"/>
          <p:cNvSpPr/>
          <p:nvPr/>
        </p:nvSpPr>
        <p:spPr>
          <a:xfrm>
            <a:off x="0" y="421488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Deckungsbeitrag und Ebi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mit dem Seminarleiterbericht Deckungsbeiträge und dem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Teilnehmerbericht 8: Deckungsbeitragsrechnu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feld 6"/>
          <p:cNvSpPr/>
          <p:nvPr/>
        </p:nvSpPr>
        <p:spPr>
          <a:xfrm>
            <a:off x="0" y="535788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ilanzanalyse insbesondere auch Entwicklung des Fremdkapita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it dem Seminarleiterberichten V: Geschäftsberichte der Branche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m Seminarleiterbericht 7: Kennzahle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d dem Teilnehmerbericht 9: Finanzbericht und Bilanz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feld 7"/>
          <p:cNvSpPr/>
          <p:nvPr/>
        </p:nvSpPr>
        <p:spPr>
          <a:xfrm>
            <a:off x="0" y="178596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.     Auslastung der Produktionsfaktoren (Maschinen, Arbeiter, Material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it dem Teilnehmerbericht 4 Flächenverwendung, Abschreibungen, Kapazitäten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m Seminarleiterbericht III: Interne Abläuf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feld 8"/>
          <p:cNvSpPr/>
          <p:nvPr/>
        </p:nvSpPr>
        <p:spPr>
          <a:xfrm>
            <a:off x="0" y="307188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Kostensituatio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besondere Entwicklung der Herstellkosten mit den Teilnehmerbericht 7: Kostenträgerrechnung und dem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minarleiterbericht 7: Kennzahlen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07:06:17Z</dcterms:created>
  <dc:creator>aka</dc:creator>
  <dc:description/>
  <dc:language>en-US</dc:language>
  <cp:lastModifiedBy>EGS</cp:lastModifiedBy>
  <dcterms:modified xsi:type="dcterms:W3CDTF">2009-06-08T21:13:44Z</dcterms:modified>
  <cp:revision>11</cp:revision>
  <dc:subject/>
  <dc:title>Folie 1</dc:title>
</cp:coreProperties>
</file>